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C3E9-43AE-489A-A963-2E3B8B9AA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AA65-E5C6-4BFB-89B7-2500BCBF0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C685-B48E-44FF-B6DA-57A9AA88A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B826-B3FE-4721-AB9E-7DB655A9F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E1E9-F507-4B5D-8D48-62B88D830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E54A-A2F6-475C-84F2-85C01FE4A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A998-6AAE-4579-8544-FCAC449F3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E43D-284A-43E2-B7C6-7D05EE844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CF03-009F-4B73-A43A-E5177F472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E62A-CC7F-44B9-85F3-700C00C9F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49D1-CD10-4A50-88DB-339CD7961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BAF3-4CD9-4AD2-8619-3F9CB4BBC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1FED-E7D9-4DA1-B566-6154717EB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88D7-3AB8-4F23-AE55-16D128F0F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2C99-5EEF-48CF-833E-D5F9248F6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249-F0E1-4742-B119-987DCB2C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911-E09D-4ACE-B508-283E4037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E33-50FE-4EC5-84B0-1E4C7C16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1001-2903-4B4D-B7CB-C387F098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6037-2C66-4D06-8C1F-9E040009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3DE6-57CA-4AA5-B7F5-499A8EDE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7A4-D323-4636-ACBF-C8702456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942-833D-4C78-AA65-80F30984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6A2E-D6CF-4817-831D-BC7C029D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00F-DC97-4230-A918-53C5A9B7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378A-2FD9-435F-BC19-CBBBD061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C34D-742F-4949-9B77-B43B6C8A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15A6-2378-43DF-B88B-59D2F88DC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Style Sheets for Accessi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ston-IA September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5520" y="441360"/>
            <a:ext cx="330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el Sklar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16360" y="685800"/>
            <a:ext cx="45655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647712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3 WAI Guid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direct accessibility of embedded user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for device independ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terim sol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W3C technologies and guideli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context and orientation inform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clear navigation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documents are clear and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Accessibility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media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 contr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acing, alignment, positioning contr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r-centric style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ral style she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86200" y="2362320"/>
            <a:ext cx="2133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S Style She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133720"/>
            <a:ext cx="21337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-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2703600"/>
            <a:ext cx="1371600" cy="179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/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433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3352680"/>
            <a:ext cx="10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2895480"/>
            <a:ext cx="569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3048120"/>
            <a:ext cx="569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200400"/>
            <a:ext cx="569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562720" y="228564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80988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04920"/>
            <a:ext cx="58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1371600"/>
            <a:ext cx="20574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o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84600" y="5742000"/>
            <a:ext cx="71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@media screen {body  {color: black;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for Accessi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ine your aud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ore assistive devices and learn to use th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de on interim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lude accessibility in your testing regi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for Accessi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ert to well-formed HTML 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ove embedded display inf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force consistency in document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oid element mis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xt BIG 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76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ibility improv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b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r satisf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care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76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ng acces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the guide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aring for acces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ing with style she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xt BIG 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0880"/>
            <a:ext cx="78483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xt BIG 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80880"/>
            <a:ext cx="78483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781680" cy="4721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ng Acces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6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content that is accessible despite any physical, sensory, and cognitive disabilities, work constraints or technological barri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ability and Acces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ability problems impact all users equ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ibility problems impact people with dis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15360" y="6095880"/>
            <a:ext cx="306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cher, Constructing Accessible Web Site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Design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ML coding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paration of structure and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s for data, not lay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stent design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wards compat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Business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access for people with disabilities and the elderly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greater usability for non-disabled Web users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s technical performance 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an organization's commitment to social responsibility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organizations avoid liabi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3 WAI Guid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764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equivalent alternatives to auditory and visual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rely on color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arkup and style sheets and do so prop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natural language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ables that transform grac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pages featuring new technologies transform graceful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user control of time-sensitive content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3:37:29Z</dcterms:created>
  <dc:creator>Joel Sklar</dc:creator>
  <dc:description/>
  <dc:language>en-US</dc:language>
  <cp:lastModifiedBy>Joel Sklar</cp:lastModifiedBy>
  <dcterms:modified xsi:type="dcterms:W3CDTF">2003-09-30T17:02:07Z</dcterms:modified>
  <cp:revision>136</cp:revision>
  <dc:subject/>
  <dc:title>No Slide Title</dc:title>
</cp:coreProperties>
</file>